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6.png" ContentType="image/png"/>
  <Override PartName="/ppt/media/image12.jpeg" ContentType="image/jpeg"/>
  <Override PartName="/ppt/media/image33.jpeg" ContentType="image/jpeg"/>
  <Override PartName="/ppt/media/image45.png" ContentType="image/png"/>
  <Override PartName="/ppt/media/image35.png" ContentType="image/png"/>
  <Override PartName="/ppt/media/image32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48.png" ContentType="image/png"/>
  <Override PartName="/ppt/media/image43.png" ContentType="image/png"/>
  <Override PartName="/ppt/media/image47.jpeg" ContentType="image/jpeg"/>
  <Override PartName="/ppt/media/image49.jpeg" ContentType="image/jpeg"/>
  <Override PartName="/ppt/media/image46.jpeg" ContentType="image/jpeg"/>
  <Override PartName="/ppt/media/image51.jpeg" ContentType="image/jpeg"/>
  <Override PartName="/ppt/media/image53.png" ContentType="image/png"/>
  <Override PartName="/ppt/media/image31.jpeg" ContentType="image/jpeg"/>
  <Override PartName="/ppt/media/image30.jpeg" ContentType="image/jpeg"/>
  <Override PartName="/ppt/media/image13.jpeg" ContentType="image/jpeg"/>
  <Override PartName="/ppt/media/image44.png" ContentType="image/png"/>
  <Override PartName="/ppt/media/image40.jpeg" ContentType="image/jpeg"/>
  <Override PartName="/ppt/media/image39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03E-C216-438A-9999-3392A4FD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979-DB00-46B0-98CE-1968BB1C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036-D39C-4FDC-86C9-F9CA3EF3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CE7E-5808-4F77-A2E7-6C4219BB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7F48-0356-4E9A-8A08-6930F720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090C-00A2-47BF-9D4A-BDA19C5F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087B-31B9-43C8-82B1-93B820FC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F358-6616-4F8D-988C-B7652F8D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2D96-3D50-41B5-B407-18EEDDBD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EA1E-A6C5-4AE4-81A8-B79CE253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C816-BE40-41D0-B6DC-487B8DC4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19E9-819C-40D7-9E03-08764041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FC4F-BFDE-42D0-A615-48D10F64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2A6F-DB6B-4464-842B-80CDB40D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B459-8918-4A68-B761-9C8615AF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00A9-94C6-4583-98B5-1581BEC7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BA22-EA6B-4E58-B3FC-92E3A623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C9E0-3484-4208-9C1C-9838C7EB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273-4C9A-4178-A940-513C14AE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5E7-3AF1-4FCB-8829-38B45E9B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043-22E8-414F-89A2-015C5994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A65D-790E-4388-972F-01B6FC34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D532-259B-46C8-B87C-2589677B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1E4D-D012-4D60-95A5-C1E41294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3E81-91A0-4F2C-827B-4591D926308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E993-AB98-4C8C-B3D2-A85B2A8ADF1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02480" y="50004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Основне струковне студиј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324000" y="1989000"/>
            <a:ext cx="8381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835280" y="3357720"/>
            <a:ext cx="5545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3. наставна јединица (трећа недеља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ештина невербалне комуник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879520" y="5997600"/>
            <a:ext cx="30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Проф. др Владимир Јањи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асив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бега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ог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умач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поштовањ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пристојн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заинтересован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796000" y="826920"/>
            <a:ext cx="291636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7928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јак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уг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треми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живљав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раз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периорност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т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тећ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љ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вред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9" name="Picture 2" descr="http://t1.gstatic.com/images?q=tbn:ANd9GcS2MIlds4i2rchxqqUyGrEgITCBKjOdq_rSmBVN--OSJPiniRGwhCnA5aPjtQ"/>
          <p:cNvPicPr/>
          <p:nvPr/>
        </p:nvPicPr>
        <p:blipFill>
          <a:blip r:embed="rId1"/>
          <a:stretch/>
        </p:blipFill>
        <p:spPr>
          <a:xfrm>
            <a:off x="5724360" y="2997360"/>
            <a:ext cx="27352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7445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навиш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змишљ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чем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ероват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вар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лик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ипада визуелном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ипу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кушава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ти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чега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виш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лев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казу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исећањ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виш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десн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 смишљ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струис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ког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држа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аж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гнал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сад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же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чег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тересантнијег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2" descr="http://t3.gstatic.com/images?q=tbn:ANd9GcQoov8YXG9NafCWOYaKcrcuK96HWSLG3Bo2g4Z5FfoR1PwRPHfy5g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9528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наниж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нак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бмисивнос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казуј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ећ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ривом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ниж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лев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казу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“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нутрашњ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ционалн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ијалог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”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ниж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десн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казу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свећеност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опственим емоција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ноги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ултура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вег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нач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кази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штова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Picture 2" descr="http://t1.gstatic.com/images?q=tbn:ANd9GcSi5Yc6a7-jwiqrLlNe66Y2YV8jAOSTzlWyV1-Swumb9cwkCBeA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24000" y="1125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стран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крета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звор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ивлачења пажње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звору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нтересовања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етње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ев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значит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исећа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к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звук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есно замишља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ког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звук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2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Латерални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окрети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(“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Шарање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огледом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”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крет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чим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ев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есн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казиват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евар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ага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соба покушава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ђе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злаз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лучај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хвате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ажи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Шара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гледом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јављ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ад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к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шт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аопштав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“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верењ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”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 проверав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ико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руги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луша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5" name="Picture 2" descr="http://t2.gstatic.com/images?q=tbn:ANd9GcRz-HUfAyIacuo1PNUOvJQD6HEaMYwVea8q10wpujCnW8NXg-yr7A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ош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иљ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уљ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крзну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о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реља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аршунас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киље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епт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миги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з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твар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ј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7" name="Picture 2" descr="http://t2.gstatic.com/images?q=tbn:ANd9GcQI77yvNpxxhiiCrzY_y7HVNDQWm2f4J0KluWuwHKbyOuxydOWjCQ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6" descr="http://t0.gstatic.com/images?q=tbn:ANd9GcQjc2LC34uxByvsM4vBaCeY40qc37PNNqkYv_jyEfmI07QrW71U"/>
          <p:cNvPicPr/>
          <p:nvPr/>
        </p:nvPicPr>
        <p:blipFill>
          <a:blip r:embed="rId1"/>
          <a:stretch/>
        </p:blipFill>
        <p:spPr>
          <a:xfrm>
            <a:off x="755640" y="1844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2" descr="http://t3.gstatic.com/images?q=tbn:ANd9GcR5BDaNZMViwXq7om3ZI6-j8RRr6sroS12anNa1LqjCs71sL4NbDA"/>
          <p:cNvPicPr/>
          <p:nvPr/>
        </p:nvPicPr>
        <p:blipFill>
          <a:blip r:embed="rId2"/>
          <a:stretch/>
        </p:blipFill>
        <p:spPr>
          <a:xfrm>
            <a:off x="5219640" y="54936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http://t0.gstatic.com/images?q=tbn:ANd9GcS-Ak4awl7L9Vx47DKxoPnZU_4OYGN5z_HyMp2Qu8YSkWoaS2rH"/>
          <p:cNvPicPr/>
          <p:nvPr/>
        </p:nvPicPr>
        <p:blipFill>
          <a:blip r:embed="rId3"/>
          <a:stretch/>
        </p:blipFill>
        <p:spPr>
          <a:xfrm>
            <a:off x="755640" y="4292640"/>
            <a:ext cx="3311640" cy="2232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http://t3.gstatic.com/images?q=tbn:ANd9GcQ4sRbNWWs6MZoU_T5AwyBTm5i_dphEromlAKZiNCT8ufnxI6K0"/>
          <p:cNvPicPr/>
          <p:nvPr/>
        </p:nvPicPr>
        <p:blipFill>
          <a:blip r:embed="rId4"/>
          <a:stretch/>
        </p:blipFill>
        <p:spPr>
          <a:xfrm>
            <a:off x="5940360" y="4869000"/>
            <a:ext cx="2781360" cy="1647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http://t3.gstatic.com/images?q=tbn:ANd9GcQXMU-GNioH-QQJidiQf1aTLgaR04_hCFFBvUSGoSi3a7j4JRETPQ"/>
          <p:cNvPicPr/>
          <p:nvPr/>
        </p:nvPicPr>
        <p:blipFill>
          <a:blip r:embed="rId5"/>
          <a:stretch/>
        </p:blipFill>
        <p:spPr>
          <a:xfrm>
            <a:off x="4859280" y="2637000"/>
            <a:ext cx="3025800" cy="19443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2"/>
          <p:cNvSpPr/>
          <p:nvPr/>
        </p:nvSpPr>
        <p:spPr>
          <a:xfrm>
            <a:off x="1987200" y="83664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ЗЕНИ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50920" y="1412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уштене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под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рва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ређеној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ери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кривају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себно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з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уштену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лаву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гу указива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вар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љ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мањ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нак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минантн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об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казива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задовољств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шаљ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к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“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а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пријат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леда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4" descr="http://t3.gstatic.com/images?q=tbn:ANd9GcROZYLJ3XuCaUq_ir4KfswBKJzW5le-eGWgOIJmxq5EmBWDOtDIEg"/>
          <p:cNvPicPr/>
          <p:nvPr/>
        </p:nvPicPr>
        <p:blipFill>
          <a:blip r:embed="rId1"/>
          <a:stretch/>
        </p:blipFill>
        <p:spPr>
          <a:xfrm>
            <a:off x="6227640" y="189000"/>
            <a:ext cx="2143080" cy="18716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8" descr="http://t2.gstatic.com/images?q=tbn:ANd9GcSyStjQRxj4-5ygXcW-KhSHDqc2A33ahD8J3pWN6Dl_fIg_84Hf9A"/>
          <p:cNvPicPr/>
          <p:nvPr/>
        </p:nvPicPr>
        <p:blipFill>
          <a:blip r:embed="rId2"/>
          <a:stretch/>
        </p:blipFill>
        <p:spPr>
          <a:xfrm>
            <a:off x="6732720" y="4365720"/>
            <a:ext cx="2000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412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одигнут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Изненађењ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што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виш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изненађена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то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виш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дижу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 делимичн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због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ширег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тварањ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чију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ривлачењ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ажњ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кад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нек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остављ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итањ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уз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дизањ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рв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жели д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му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авезн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дговор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указиват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твореност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субмисивност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одизањ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једн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редак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гест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ичн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знач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: “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л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с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сигуран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у т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шт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говориш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”...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http://t2.gstatic.com/images?q=tbn:ANd9GcSWTqhVtiYhtp6NWgWs5uXveEkWrDLTPMLcWoQjByaxnzyqvgZ0ng"/>
          <p:cNvPicPr/>
          <p:nvPr/>
        </p:nvPicPr>
        <p:blipFill>
          <a:blip r:embed="rId1"/>
          <a:stretch/>
        </p:blipFill>
        <p:spPr>
          <a:xfrm>
            <a:off x="5148360" y="692280"/>
            <a:ext cx="3024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341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здигнут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ред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бринут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лакшањ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уште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ред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Љут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ес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рустр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исо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центр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циловање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рз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крет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ре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ле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гнал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познавање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 поздрав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6" name="Picture 4" descr="http://t0.gstatic.com/images?q=tbn:ANd9GcSarMfwxQD3wpVI95VeoVhOLATolS-a65494NxbrF1EW_3hahZVow"/>
          <p:cNvPicPr/>
          <p:nvPr/>
        </p:nvPicPr>
        <p:blipFill>
          <a:blip r:embed="rId1"/>
          <a:stretch/>
        </p:blipFill>
        <p:spPr>
          <a:xfrm>
            <a:off x="6084720" y="765000"/>
            <a:ext cx="1914840" cy="23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ви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знаци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учествују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ном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чину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ами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нису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дупиру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допуњују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упротстављају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24000" y="2033280"/>
            <a:ext cx="8496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АЦИЈАЛ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КСПРЕС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РАЗ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ИЦ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руг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важниј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спект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струмен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ражава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моционалног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вих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рст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овек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виш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ацијалних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ишић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43)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шт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могућав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хиљад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зличитих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раз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иц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8" descr="http://t2.gstatic.com/images?q=tbn:ANd9GcRVTHHNqzL-TYJHmLvuC1W43Q5aEtBAyml6TCjx_ZOGu-tqqoJD"/>
          <p:cNvPicPr/>
          <p:nvPr/>
        </p:nvPicPr>
        <p:blipFill>
          <a:blip r:embed="rId1"/>
          <a:stretch/>
        </p:blipFill>
        <p:spPr>
          <a:xfrm>
            <a:off x="5867280" y="333360"/>
            <a:ext cx="288144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http://t1.gstatic.com/images?q=tbn:ANd9GcQj2j_BQib9HKsM--ER12aCai3eTgU9GyUE-zEB2MJjP3q6qKLr"/>
          <p:cNvPicPr/>
          <p:nvPr/>
        </p:nvPicPr>
        <p:blipFill>
          <a:blip r:embed="rId2"/>
          <a:stretch/>
        </p:blipFill>
        <p:spPr>
          <a:xfrm>
            <a:off x="1332000" y="71280"/>
            <a:ext cx="2952720" cy="18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95280" y="1888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АЦИЈАЛ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КСПРЕС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АЗИЧ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МО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рећ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д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уг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ал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ра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нев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љутњ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ађењ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интересован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133800" cy="408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http://t0.gstatic.com/images?q=tbn:ANd9GcQIas4iE0T6xiVLcyj3W9HyJmgaqI1HOmWJ1D7HCfteFuman6f0Sg"/>
          <p:cNvPicPr/>
          <p:nvPr/>
        </p:nvPicPr>
        <p:blipFill>
          <a:blip r:embed="rId2"/>
          <a:stretch/>
        </p:blipFill>
        <p:spPr>
          <a:xfrm>
            <a:off x="2340000" y="18900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50760" y="2707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ав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аж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7" name="Picture 2" descr="http://t1.gstatic.com/images?q=tbn:ANd9GcSTwWGJQT-gJRp4DKzH3u-p2vkUJhn4sI93dyFHaWmIZT700XEd"/>
          <p:cNvPicPr/>
          <p:nvPr/>
        </p:nvPicPr>
        <p:blipFill>
          <a:blip r:embed="rId1"/>
          <a:stretch/>
        </p:blipFill>
        <p:spPr>
          <a:xfrm>
            <a:off x="5724360" y="404640"/>
            <a:ext cx="2067120" cy="2210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http://t3.gstatic.com/images?q=tbn:ANd9GcRRR4oj7LW6PgwtBvpV8X9k96iUYBaAN1fHFamiziFN1X380NA2"/>
          <p:cNvPicPr/>
          <p:nvPr/>
        </p:nvPicPr>
        <p:blipFill>
          <a:blip r:embed="rId2"/>
          <a:stretch/>
        </p:blipFill>
        <p:spPr>
          <a:xfrm>
            <a:off x="1547640" y="3333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http://t1.gstatic.com/images?q=tbn:ANd9GcT_vaUZdI4OUnfxZpWBJAEx2wOMEXV5VwV6I15LtlNkqO0dFFxUvQ"/>
          <p:cNvPicPr/>
          <p:nvPr/>
        </p:nvPicPr>
        <p:blipFill>
          <a:blip r:embed="rId3"/>
          <a:stretch/>
        </p:blipFill>
        <p:spPr>
          <a:xfrm>
            <a:off x="5003640" y="3645000"/>
            <a:ext cx="21528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95280" y="198900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АЖН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м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ав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наг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Јавља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увише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брзо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увише споро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спев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трај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олик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треба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времен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кочени осмех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асиметричан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скривљен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 с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једним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дигнутим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глом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сана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тиче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стале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елове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иц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ао што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ч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браз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ном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тепену у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ојем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то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ин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ав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1" name="Picture 2" descr="http://t1.gstatic.com/images?q=tbn:ANd9GcT_vaUZdI4OUnfxZpWBJAEx2wOMEXV5VwV6I15LtlNkqO0dFFxUvQ"/>
          <p:cNvPicPr/>
          <p:nvPr/>
        </p:nvPicPr>
        <p:blipFill>
          <a:blip r:embed="rId1"/>
          <a:stretch/>
        </p:blipFill>
        <p:spPr>
          <a:xfrm>
            <a:off x="6523200" y="512640"/>
            <a:ext cx="2152440" cy="2124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t3.gstatic.com/images?q=tbn:ANd9GcQf_H4RQGrZkE__Rdky11Aegk3oOXRhvtw8gSMwOY8fVWyFJrQR"/>
          <p:cNvPicPr/>
          <p:nvPr/>
        </p:nvPicPr>
        <p:blipFill>
          <a:blip r:embed="rId2"/>
          <a:stretch/>
        </p:blipFill>
        <p:spPr>
          <a:xfrm>
            <a:off x="1835280" y="260280"/>
            <a:ext cx="28191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3640" y="1412640"/>
            <a:ext cx="8569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АВ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наг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с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степе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у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наг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а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 гас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вес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рем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клад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војом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нагом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метрича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звучени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дигнутим усна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гл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тич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тал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елов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иц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ољним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елов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ј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ављај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ракас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ор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испод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ју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варају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есиц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 мал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уштају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4" name="Picture 2" descr="http://t2.gstatic.com/images?q=tbn:ANd9GcS2--Vz3gDm6uEV474dh9AiwOJuGrI_ahGiBdGgAcXNZDqbbA-Hgw"/>
          <p:cNvPicPr/>
          <p:nvPr/>
        </p:nvPicPr>
        <p:blipFill>
          <a:blip r:embed="rId1"/>
          <a:stretch/>
        </p:blipFill>
        <p:spPr>
          <a:xfrm>
            <a:off x="5580000" y="549360"/>
            <a:ext cx="2087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450720" y="-103320"/>
            <a:ext cx="8255160" cy="1150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457200" y="1125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тиснутих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усан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вак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у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ајн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држав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б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ћ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ко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ћ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миље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на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руг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итај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гнал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бијањ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Виђа</a:t>
            </a:r>
            <a:r>
              <a:rPr b="0" i="1" lang="vi-VN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i="1" lang="vi-VN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i="1" lang="vi-VN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успешних пословних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људи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као да</a:t>
            </a:r>
            <a:r>
              <a:rPr b="0" i="1" lang="de-DE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хоће</a:t>
            </a:r>
            <a:r>
              <a:rPr b="0" i="1" lang="de-DE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i="1" lang="de-DE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кажу</a:t>
            </a:r>
            <a:r>
              <a:rPr b="0" i="1" lang="de-DE" sz="2200" spc="-1" strike="noStrike">
                <a:solidFill>
                  <a:srgbClr val="ffffff"/>
                </a:solidFill>
                <a:latin typeface="Book Antiqua"/>
              </a:rPr>
              <a:t>: “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Ја знам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јну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посл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њ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, 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 н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куш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те д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 o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ткријете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e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му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e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 с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ст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ји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!”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7" name="Picture 2" descr="http://t1.gstatic.com/images?q=tbn:ANd9GcQKOA0S0sroroxxiCyf46Ekd_j5blD0rkFT-8wPmw1UlRXVWBzW8w"/>
          <p:cNvPicPr/>
          <p:nvPr/>
        </p:nvPicPr>
        <p:blipFill>
          <a:blip r:embed="rId2"/>
          <a:stretch/>
        </p:blipFill>
        <p:spPr>
          <a:xfrm>
            <a:off x="5651640" y="3213000"/>
            <a:ext cx="3024000" cy="194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http://t2.gstatic.com/images?q=tbn:ANd9GcQo5Mw_fLzNnTGrgYaGSzAs9H3Rrk0ktOTZBnllDc0-ABtFDLCP"/>
          <p:cNvPicPr/>
          <p:nvPr/>
        </p:nvPicPr>
        <p:blipFill>
          <a:blip r:embed="rId3"/>
          <a:stretch/>
        </p:blipFill>
        <p:spPr>
          <a:xfrm>
            <a:off x="6012000" y="907920"/>
            <a:ext cx="2286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itle 1" descr=""/>
          <p:cNvPicPr/>
          <p:nvPr/>
        </p:nvPicPr>
        <p:blipFill>
          <a:blip r:embed="rId1"/>
          <a:stretch/>
        </p:blipFill>
        <p:spPr>
          <a:xfrm>
            <a:off x="450720" y="-103320"/>
            <a:ext cx="8255160" cy="1150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2349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Искривљен осме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кривљен</a:t>
            </a: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рактеристичан</a:t>
            </a: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падни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вет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вед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e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м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мерно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што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шаљ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м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дн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к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рказа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1" name="Picture 2" descr="http://t0.gstatic.com/images?q=tbn:ANd9GcTXIeR6TdX_O3iPVrOqs0N3-tn-E4SCFTTwnJ4R3AMdxn7rhAoi"/>
          <p:cNvPicPr/>
          <p:nvPr/>
        </p:nvPicPr>
        <p:blipFill>
          <a:blip r:embed="rId2"/>
          <a:stretch/>
        </p:blipFill>
        <p:spPr>
          <a:xfrm>
            <a:off x="6948360" y="400536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://t1.gstatic.com/images?q=tbn:ANd9GcRKC510y5ZySrVHQWrfWKGe4axqJ8Sg_ya2HPNDk70zgddVn8bzhQ"/>
          <p:cNvPicPr/>
          <p:nvPr/>
        </p:nvPicPr>
        <p:blipFill>
          <a:blip r:embed="rId3"/>
          <a:stretch/>
        </p:blipFill>
        <p:spPr>
          <a:xfrm>
            <a:off x="5076720" y="1052640"/>
            <a:ext cx="276228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450720" y="-103320"/>
            <a:ext cx="8255160" cy="1150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374760" y="1483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Осмех искоса уз поглед навиш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вај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ушкарц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уди очинс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ећањ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дова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нском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дварачко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пертоар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10" descr="http://t3.gstatic.com/images?q=tbn:ANd9GcSLmGlZYoHkRMHi4uImmzZ8lX-j-_h2I_cUvgD6DwBQj8N7rEOB"/>
          <p:cNvPicPr/>
          <p:nvPr/>
        </p:nvPicPr>
        <p:blipFill>
          <a:blip r:embed="rId2"/>
          <a:stretch/>
        </p:blipFill>
        <p:spPr>
          <a:xfrm>
            <a:off x="6372360" y="3357720"/>
            <a:ext cx="2016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125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ГНАЛИ РУКАМ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554508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40464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377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УКОВАЊ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имски поздрав                               Потчињеност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минација                                   Једнакост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2228760" cy="1685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5651640" y="1341360"/>
            <a:ext cx="2270160" cy="165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1332000" y="3716280"/>
            <a:ext cx="2733480" cy="203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4"/>
          <a:stretch/>
        </p:blipFill>
        <p:spPr>
          <a:xfrm>
            <a:off x="5435640" y="3645000"/>
            <a:ext cx="2695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9933"/>
                </a:solidFill>
                <a:latin typeface="Book Antiqua"/>
              </a:rPr>
              <a:t>78%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ке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невербална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13%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ини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лас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дик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9% 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адржај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4" descr="nixon"/>
          <p:cNvPicPr/>
          <p:nvPr/>
        </p:nvPicPr>
        <p:blipFill>
          <a:blip r:embed="rId1"/>
          <a:stretch/>
        </p:blipFill>
        <p:spPr>
          <a:xfrm>
            <a:off x="1692360" y="3573360"/>
            <a:ext cx="2098440" cy="237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jfk"/>
          <p:cNvPicPr/>
          <p:nvPr/>
        </p:nvPicPr>
        <p:blipFill>
          <a:blip r:embed="rId2"/>
          <a:stretch/>
        </p:blipFill>
        <p:spPr>
          <a:xfrm>
            <a:off x="4643280" y="3573360"/>
            <a:ext cx="208944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096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88440" indent="-291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ВОНИК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јављу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терекциј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међу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дређеног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 надређеног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н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адај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гурн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периор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ест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рис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вај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е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7" name="Picture 2" descr="http://t3.gstatic.com/images?q=tbn:ANd9GcTmihuv0Tb3HYrk3dBoGqWC6b1Zpk35DlQOcDL1Hx939isiztbi"/>
          <p:cNvPicPr/>
          <p:nvPr/>
        </p:nvPicPr>
        <p:blipFill>
          <a:blip r:embed="rId1"/>
          <a:stretch/>
        </p:blipFill>
        <p:spPr>
          <a:xfrm>
            <a:off x="6443640" y="1916280"/>
            <a:ext cx="18734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68360" y="475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РЖАЊЕ РУКУ ИЗА ЛЕЂ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рис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литичар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л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лицајц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мо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периорнос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мопоузд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ћ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ите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уке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еђа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 почеће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ећате супериорн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6300720" y="1916280"/>
            <a:ext cx="2228760" cy="314316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475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ПРУЖЕН  КАЖИПР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азива негативна осећањ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д слушаоца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362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екрштен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ук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/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ог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лушаоца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смерен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рану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крштен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ог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меру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ворник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7" name="Picture 4" descr="prekrizene ruke"/>
          <p:cNvPicPr/>
          <p:nvPr/>
        </p:nvPicPr>
        <p:blipFill>
          <a:blip r:embed="rId1"/>
          <a:stretch/>
        </p:blipFill>
        <p:spPr>
          <a:xfrm>
            <a:off x="3564000" y="907920"/>
            <a:ext cx="1925640" cy="2232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prekrizene noge"/>
          <p:cNvPicPr/>
          <p:nvPr/>
        </p:nvPicPr>
        <p:blipFill>
          <a:blip r:embed="rId2"/>
          <a:stretch/>
        </p:blipFill>
        <p:spPr>
          <a:xfrm>
            <a:off x="3564000" y="4005360"/>
            <a:ext cx="1901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раширен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рук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кренут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ланов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рем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аговорнику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кривање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ланов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0" name="Picture 4" descr="nev komu"/>
          <p:cNvPicPr/>
          <p:nvPr/>
        </p:nvPicPr>
        <p:blipFill>
          <a:blip r:embed="rId1"/>
          <a:stretch/>
        </p:blipFill>
        <p:spPr>
          <a:xfrm>
            <a:off x="3564000" y="1916280"/>
            <a:ext cx="230328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одиривањ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нос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ув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лиц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близ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уст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дмицањ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ковратника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Једн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ил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б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рук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џепу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махањ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кажипрстом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2" name="Picture 6" descr="kaziprst"/>
          <p:cNvPicPr/>
          <p:nvPr/>
        </p:nvPicPr>
        <p:blipFill>
          <a:blip r:embed="rId1"/>
          <a:stretch/>
        </p:blipFill>
        <p:spPr>
          <a:xfrm>
            <a:off x="3059280" y="3838680"/>
            <a:ext cx="259236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оживљаваће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вас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ка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соб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кој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ј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пријатељска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и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спремна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на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ссрадњ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ак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гледа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сговорник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лиц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ак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мешка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отврдн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кима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главом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ок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руг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говор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оказује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творен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ланов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овремен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отиче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лиц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н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ржи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рекрштен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рук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ил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ног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тран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мал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нагне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напред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ил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ак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риближава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аговорнику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зултат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даљеност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спореда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говорника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осторији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Интимни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простор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15 – 45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цм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пружниц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љубљен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еца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Лични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простор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45 – 120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цм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ијатељ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Социјални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простор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1,2 – 3,5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одавц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радниц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познат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људ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Јавни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простор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иш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3,5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ећој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руп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755640" y="2349360"/>
          <a:ext cx="7488360" cy="3660840"/>
        </p:xfrm>
        <a:graphic>
          <a:graphicData uri="http://schemas.openxmlformats.org/drawingml/2006/table">
            <a:tbl>
              <a:tblPr/>
              <a:tblGrid>
                <a:gridCol w="1959120"/>
                <a:gridCol w="2759040"/>
                <a:gridCol w="2770200"/>
              </a:tblGrid>
              <a:tr h="87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рактеристике комуника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Вербал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Невербал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Сложено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Једна димензија (реч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ише димензија (став, глас.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Вре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време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онтинуира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7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Јасноћ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етко је погрешна интерпрета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Увек је двосмисл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Учина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лабиј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Ј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Наме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јчешће намер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есто ненамер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1"/>
          <p:cNvSpPr/>
          <p:nvPr/>
        </p:nvSpPr>
        <p:spPr>
          <a:xfrm>
            <a:off x="711720" y="1369440"/>
            <a:ext cx="78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лике између вербалне и невербалне комуник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50760" y="17445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тела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раз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иц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кре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лавом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естов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крет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рж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здаљ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ријент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95220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в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спек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и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целин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осилац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к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ЦЕЛИНА 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как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л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јединачни аспек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“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вор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ел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ка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зумети ва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екст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опште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276720" y="4149720"/>
            <a:ext cx="2663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096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-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моћни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редств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зив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редств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рол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ирод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јања интеракци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судн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тич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нхронизацију комуника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788000" y="836640"/>
            <a:ext cx="3816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4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-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унк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же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форм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кази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аж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тересовањ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же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рол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теракциј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минац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т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тицај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же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еед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ацк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ткри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ов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5508720" y="189000"/>
            <a:ext cx="35622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4"/>
          <p:cNvSpPr/>
          <p:nvPr/>
        </p:nvSpPr>
        <p:spPr>
          <a:xfrm>
            <a:off x="6978600" y="0"/>
            <a:ext cx="2165400" cy="66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ктив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бега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ог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еж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умач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искрен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сигурн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7020000" y="620640"/>
            <a:ext cx="2124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7:57:55Z</dcterms:created>
  <dc:creator>DELL</dc:creator>
  <dc:description/>
  <dc:language>en-US</dc:language>
  <cp:lastModifiedBy>Milanče Sin</cp:lastModifiedBy>
  <dcterms:modified xsi:type="dcterms:W3CDTF">2023-02-03T23:04:42Z</dcterms:modified>
  <cp:revision>60</cp:revision>
  <dc:subject/>
  <dc:title>Slide 1</dc:title>
</cp:coreProperties>
</file>